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DE5-2279-44B1-BE8B-83A39373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CBD-6409-4279-BDBA-BED4A33B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154-21DC-4411-A59D-288373A5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36A-C40B-4FFC-836A-8C580FBF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B27D-FBAE-4607-85C5-50B01B2B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95D9-C509-4BCB-9BED-A9814F99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754E-E664-4E6C-AF4E-E804EFEA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8157-FFD7-4263-BB65-1B01A028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4281-AB1D-4A6D-9D06-0937E70C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1235-F895-42B9-80D0-09F728AE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DC9C-8310-4845-9A14-FAACE4D0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3F5-D77B-4B2F-98E4-BB99CBB1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1D7D-785A-4BE8-A212-7DCAAA18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08FC-5721-4E05-BCC7-8CBB91EB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E057-3444-4206-ABAE-112A125E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5365-BE25-404C-AA57-E6416CF4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8307-6F8F-440F-8666-A5D9CA5C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759-B903-4753-A294-3082B7CB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828-24C3-4E4C-B96F-F8DF241B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5CF-9D8D-4174-B102-9E1789E2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467-DE31-4F3E-9A0F-BA196DDF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12F-75D5-4E2A-BDCC-ED79C548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3A9-B301-4638-A9F3-C1BBA1CB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5B4-7B3E-4107-B98C-F772BC8E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46B8-F05B-4360-800E-BB3C94E6391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2643-544B-459B-B75B-427171E9CC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Me llamo ___________ Clase 6NH</a:t>
            </a: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La fecha es el 11 de junio del 2012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Proposito # 60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Cómo practicamos los verbos de cambio radic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juga los siguientes verbos en forma de “BOTA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morzar (to lunc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olver (to retur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ntrar (to fin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ar (to rememb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ñar (to drea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Verbos de cambio radical U</a:t>
            </a:r>
            <a:r>
              <a:rPr b="0" lang="en-US" sz="40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UE</a:t>
            </a:r>
            <a:br>
              <a:rPr sz="4000"/>
            </a:b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(Stem-changing verbs U</a:t>
            </a:r>
            <a:r>
              <a:rPr b="0" i="1" lang="en-US" sz="40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UE)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686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verb J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play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hanges to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ll forms EXCEP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The endings are the same as the regular –AR verbs. TRY I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3429000"/>
          <a:ext cx="8915400" cy="1822320"/>
        </p:xfrm>
        <a:graphic>
          <a:graphicData uri="http://schemas.openxmlformats.org/drawingml/2006/table">
            <a:tbl>
              <a:tblPr/>
              <a:tblGrid>
                <a:gridCol w="2674800"/>
                <a:gridCol w="624060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J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u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</a:rPr>
                        <a:t>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048120" y="3886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3434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8006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10280" y="3824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u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4281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Jug</a:t>
            </a:r>
            <a:r>
              <a:rPr b="0" i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4724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886200"/>
            <a:ext cx="441972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648320" y="3886200"/>
            <a:ext cx="0" cy="99072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800600"/>
            <a:ext cx="449568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067680" y="4800600"/>
            <a:ext cx="0" cy="45720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5257800"/>
            <a:ext cx="883908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8600" y="3886200"/>
            <a:ext cx="0" cy="137160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5334120"/>
            <a:ext cx="472464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jercicio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XTBOO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jercicio 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. 1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jercicio 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. 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jercicio 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. 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6576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area # 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070600"/>
            <a:ext cx="82296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BOO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a p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a p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8:05:49Z</dcterms:created>
  <dc:creator>Helen Zumaeta</dc:creator>
  <dc:description/>
  <dc:language>en-US</dc:language>
  <cp:lastModifiedBy>Helen Zumaeta</cp:lastModifiedBy>
  <dcterms:modified xsi:type="dcterms:W3CDTF">2012-06-11T18:59:58Z</dcterms:modified>
  <cp:revision>5</cp:revision>
  <dc:subject/>
  <dc:title>Me llamo ___________ Clase 6NH La fecha es el 11 de junio del 2012</dc:title>
</cp:coreProperties>
</file>